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</p:sldIdLst>
  <p:sldSz cx="14547850" cy="10047288"/>
  <p:notesSz cx="9871075" cy="14295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9871200" cy="1429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6800" cy="716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5589720" y="-360"/>
            <a:ext cx="4278240" cy="716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057320" y="1072800"/>
            <a:ext cx="7758000" cy="535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f2305"/>
                </a:solidFill>
                <a:latin typeface="Franklin Gothic Medium"/>
              </a:rPr>
              <a:t>Click to move the slide</a:t>
            </a: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87120" y="6789240"/>
            <a:ext cx="7894440" cy="643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0" y="13577400"/>
            <a:ext cx="4276800" cy="71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5589720" y="13577400"/>
            <a:ext cx="4278240" cy="71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fld id="{B963ED7B-ECE5-4F11-8DF6-50063B8A1CF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057320" y="1073160"/>
            <a:ext cx="7758000" cy="5357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87120" y="6789240"/>
            <a:ext cx="7894440" cy="64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ja-JP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スライド番号プレースホルダ 3"/>
          <p:cNvSpPr/>
          <p:nvPr/>
        </p:nvSpPr>
        <p:spPr>
          <a:xfrm>
            <a:off x="5589720" y="13577760"/>
            <a:ext cx="4278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fld id="{3F5899F3-9111-4A4A-A263-30F629496D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18F-5FAD-4428-9E0B-05C3AF0A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66AE-C52C-47B1-AA52-BC27BD9D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D571F-AE4B-408C-B4AE-0F2DCC68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2257B-3E0D-4AC4-82BF-0A29AE89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83840" y="669600"/>
            <a:ext cx="13819320" cy="56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9288C-B5BA-4343-9A5D-26ECF521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07CCA-1D32-497D-9917-FF9D96DA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48FC4-966D-4EA7-8495-2973A37E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26A07-1D76-465F-8DEF-9CB3DCB1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97B77-6343-4EC5-B72A-95224B27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7C452-6A6E-4111-A359-A13017FA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5628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82872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8384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515628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982872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8DF02-D266-4EBE-AC50-54ECA073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93B-3419-40EF-B4A6-41D58D16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628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82872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8384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515628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982872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6BA-8A36-4028-9B99-15FAF977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8F06-1CB1-4952-AE31-89DB6961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7C68-C7B8-4037-9A29-317AB0CD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C7CF-6E46-40BC-9221-71B2E64A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A205-8C19-459C-ABFD-426D8B7E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473F-B099-46BC-B1A5-9AB700AE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83840" y="669600"/>
            <a:ext cx="13819320" cy="56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D22A-BF68-481C-84ED-D0D4BB53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774D-9776-49C9-BE10-21926A6F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741-8E19-4EEC-B781-11E34A70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695F-7660-439C-8FAE-A9317AF2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B013-BD55-4032-A843-37F1480D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0209-A8BC-4C4F-88A4-4FF90EF5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79F7-D005-4E8D-B9E8-E502B29D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628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82872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384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515628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982872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67BD-9E6B-428B-BD3E-8B2E98A4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25EAC-9554-441D-BD9F-A87F80FD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F42BC-C7C1-4C0C-93D1-3D79EEF0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F0F8D-E836-4252-9D0A-52E25DA0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02DD1-A487-4F77-AE69-82F42FC8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38C6D-B758-43AF-8E5E-4E09C09F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9FF-3E71-434B-AD6F-1614887E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83840" y="669600"/>
            <a:ext cx="13819320" cy="56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8E63-0D3F-461C-B4BE-C60886CD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29EB-A17D-4723-ABA1-F269BF1B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DD706-C5D1-4A0D-BA69-9EB95E95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F1489-BDAC-4A1E-935E-A4C5F185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FDB45-928F-4CA8-9A08-725C00AC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34065-C7F4-41E5-ACD7-7707271B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628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82872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384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515628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982872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F9F91-4709-4DE5-93CD-D7A85B41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7AA34-487D-40B2-93E7-43A1D169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CA3E1-A21C-4C96-A330-78455FD4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EE3F6-4657-4D74-8E35-B0AF7747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B2D-F436-43DB-B8A4-265D3C57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598EB-EB3D-444D-A62A-8434BAD6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81258-F1A8-4EA1-A26F-C9FD6EA8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83840" y="669600"/>
            <a:ext cx="13819320" cy="56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6642D-D6CF-46D6-8F4E-40B53CEF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2EFD6-E25E-4D14-9D5E-B3A77261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BF00B-C2FB-4458-AAE9-C50F50B4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F6DE6-8933-4894-B415-24B38F0A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DBE05-D72C-4439-9635-08196953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348F4-367E-4BCE-B60B-E349E2D8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628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82872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8384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15628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982872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4F8E7-1B85-46FC-8957-CD4B6959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503E3-4B5D-4F04-B2DA-673CBC6C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EDDC-A8C0-435A-AE69-EBF03C44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2297B-94D9-4967-8114-DDE5B535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3BE93-0942-462B-9C8E-E0A3B177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4EB9D-8017-4FE7-A43B-84EB1D45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66882-46AA-4BE4-AB25-45C46206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83840" y="669600"/>
            <a:ext cx="13819320" cy="56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F092D-949E-4A69-BECA-20647A3C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DB5FF-7395-49DB-AD3A-22331B13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6E829-CD43-473E-A0E9-6AC7ADF6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05160-A7E0-4234-87DE-057150AF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BA58A-11AB-41B1-AB9F-21A7CF3C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A85BA-0B9E-45B2-AD07-F5C0F4D2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83840" y="669600"/>
            <a:ext cx="13819320" cy="56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F39-25D5-4A6E-B536-9378C7D1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5628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82872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8384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515628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982872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60089-A385-4E46-8083-508F8125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DA317-AD40-418D-84FA-E96D6489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74375-7924-4CC7-9A0B-24C50131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F0985-C06E-450C-8B27-F1651C8B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5634F-BDB5-4A93-AAFB-21837680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C0598-75CA-4A65-9E93-3FBF587B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83840" y="669600"/>
            <a:ext cx="13819320" cy="56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649F8-2141-4DEA-9015-D8541BCC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3E8F5-63DF-4044-8112-B587FDB5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5A000-BC7C-419B-829D-0DF416F6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971B9-1D0A-4865-A5AF-0CA9B0D3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44EA-5898-4CAF-B8C5-FA7E4B0F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E5CDE-F4B4-4F08-BBEA-9BA0807C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AA873-4ABD-4E33-AEF6-C165EDAA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5628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82872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8384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515628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982872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F39B8-0735-408F-9580-2ED37985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79A70-D19F-4C0D-8839-0A1BD850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C6A34-78A5-49BE-89D5-5291F19F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8EFC4-DFFF-492F-B451-487E26C7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5C1B3-46D3-42AC-A582-5DA11CE9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186A5-E033-4087-968B-46F13F94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83840" y="669600"/>
            <a:ext cx="13819320" cy="56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700F0-2D81-4D73-9DA0-2BC51285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3D082-60EB-4B77-A658-9FFE1CB9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986-B2F9-4AD5-9888-253ED04D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81F66-444C-4985-866C-AB4D271B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EA4F1-4250-486D-BB0F-A0390103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C2984-A928-42E2-B3D9-C4D32685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16605-7C05-4EDE-A8F2-8FBFB06C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628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82872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8384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515628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982872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FB149-B48F-41FC-BDD0-2B1C5455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FCE40-3CB1-4E32-BDDA-19FE5683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24FB0-204F-4026-9F0B-CEB2F922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29B9A-0717-43F3-8DB5-55ACEBA2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CD0F7-C3C3-4A8B-B133-B63A2952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BC6F7-20C1-486A-B36D-A1A14056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D17-9160-46BA-8CA2-DAC717B9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83840" y="669600"/>
            <a:ext cx="13819320" cy="56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34F07-65C6-4004-BBE1-5893AC3C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5A0F5-605B-424A-B4B0-E2CB4334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C3D7F-8741-45E7-9E4B-9F1F6EFC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E2D9C-37C7-40D8-AFE5-63DE9563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3840" y="5738760"/>
            <a:ext cx="138193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8AAE8-7E25-4652-9817-74F28A3B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7565040" y="227628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38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7565040" y="5738760"/>
            <a:ext cx="674352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EFB87-44E1-4285-A198-B98341C0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628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828720" y="227628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8384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515628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9828720" y="5738760"/>
            <a:ext cx="4449600" cy="316188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E4D51-DE5E-4558-82EA-CE43B6C8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1A0C4-D609-4E29-8F86-3EA422AF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D012D-8E97-461C-90B8-49820ADA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0027F-E6EF-4478-BB9B-DD2C18FD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線コネクタ 6"/>
          <p:cNvGrpSpPr/>
          <p:nvPr/>
        </p:nvGrpSpPr>
        <p:grpSpPr>
          <a:xfrm>
            <a:off x="817560" y="1530360"/>
            <a:ext cx="13733640" cy="17280"/>
            <a:chOff x="817560" y="1530360"/>
            <a:chExt cx="13733640" cy="17280"/>
          </a:xfrm>
        </p:grpSpPr>
        <p:pic>
          <p:nvPicPr>
            <p:cNvPr id="1" name="直線コネクタ 6" descr=""/>
            <p:cNvPicPr/>
            <p:nvPr/>
          </p:nvPicPr>
          <p:blipFill>
            <a:blip r:embed="rId3"/>
            <a:stretch/>
          </p:blipFill>
          <p:spPr>
            <a:xfrm>
              <a:off x="817560" y="1530360"/>
              <a:ext cx="137336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7560" y="1539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4280" rIns="134280" tIns="-66600" bIns="-66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marL="501480" indent="-50148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Click to edit the outline text format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1" marL="1089000" indent="-41904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econd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2" marL="167652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Third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3" marL="234648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Four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4" marL="3017880" indent="-335160">
              <a:spcBef>
                <a:spcPts val="1176"/>
              </a:spcBef>
              <a:buClr>
                <a:srgbClr val="b94b2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Fif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5" marL="3017880" indent="-335160">
              <a:spcBef>
                <a:spcPts val="11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ix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6" marL="3017880" indent="-335160">
              <a:spcBef>
                <a:spcPts val="11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even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302480" y="110880"/>
            <a:ext cx="400068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970520" y="110880"/>
            <a:ext cx="533232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p>
            <a:pPr indent="0"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3091760" y="9487080"/>
            <a:ext cx="1211400" cy="35856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fld id="{FEA8BF27-F66D-430C-9A0D-9743546B6214}" type="slidenum"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f2305"/>
                </a:solidFill>
                <a:latin typeface="Franklin Gothic Medium"/>
              </a:rPr>
              <a:t>Click to edit the title text format</a:t>
            </a: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grpSp>
        <p:nvGrpSpPr>
          <p:cNvPr id="8" name="直線コネクタ 8"/>
          <p:cNvGrpSpPr/>
          <p:nvPr/>
        </p:nvGrpSpPr>
        <p:grpSpPr>
          <a:xfrm>
            <a:off x="817560" y="1530360"/>
            <a:ext cx="13733640" cy="17280"/>
            <a:chOff x="817560" y="1530360"/>
            <a:chExt cx="13733640" cy="17280"/>
          </a:xfrm>
        </p:grpSpPr>
        <p:pic>
          <p:nvPicPr>
            <p:cNvPr id="9" name="直線コネクタ 8" descr=""/>
            <p:cNvPicPr/>
            <p:nvPr/>
          </p:nvPicPr>
          <p:blipFill>
            <a:blip r:embed="rId4"/>
            <a:stretch/>
          </p:blipFill>
          <p:spPr>
            <a:xfrm>
              <a:off x="817560" y="1530360"/>
              <a:ext cx="137336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817560" y="1539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4280" rIns="134280" tIns="-66600" bIns="-66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線コネクタ 11"/>
          <p:cNvGrpSpPr/>
          <p:nvPr/>
        </p:nvGrpSpPr>
        <p:grpSpPr>
          <a:xfrm>
            <a:off x="817560" y="1542960"/>
            <a:ext cx="13733640" cy="17640"/>
            <a:chOff x="817560" y="1542960"/>
            <a:chExt cx="13733640" cy="17640"/>
          </a:xfrm>
        </p:grpSpPr>
        <p:pic>
          <p:nvPicPr>
            <p:cNvPr id="12" name="直線コネクタ 11" descr=""/>
            <p:cNvPicPr/>
            <p:nvPr/>
          </p:nvPicPr>
          <p:blipFill>
            <a:blip r:embed="rId5"/>
            <a:stretch/>
          </p:blipFill>
          <p:spPr>
            <a:xfrm>
              <a:off x="817560" y="1542960"/>
              <a:ext cx="137336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817560" y="1549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4280" rIns="134280" tIns="-66600" bIns="-66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線コネクタ 12"/>
          <p:cNvGrpSpPr/>
          <p:nvPr/>
        </p:nvGrpSpPr>
        <p:grpSpPr>
          <a:xfrm>
            <a:off x="817560" y="7827840"/>
            <a:ext cx="13733640" cy="17640"/>
            <a:chOff x="817560" y="7827840"/>
            <a:chExt cx="13733640" cy="17640"/>
          </a:xfrm>
        </p:grpSpPr>
        <p:pic>
          <p:nvPicPr>
            <p:cNvPr id="51" name="直線コネクタ 12" descr=""/>
            <p:cNvPicPr/>
            <p:nvPr/>
          </p:nvPicPr>
          <p:blipFill>
            <a:blip r:embed="rId3"/>
            <a:stretch/>
          </p:blipFill>
          <p:spPr>
            <a:xfrm>
              <a:off x="817560" y="7827840"/>
              <a:ext cx="137336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7560" y="7835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4280" rIns="134280" tIns="-66600" bIns="-66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marL="501480" indent="-50148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Click to edit the outline text format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1" marL="1089000" indent="-41904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econd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2" marL="167652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Third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3" marL="234648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Four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4" marL="3017880" indent="-335160">
              <a:spcBef>
                <a:spcPts val="1176"/>
              </a:spcBef>
              <a:buClr>
                <a:srgbClr val="b94b2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Fif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5" marL="3017880" indent="-335160">
              <a:spcBef>
                <a:spcPts val="11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ix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6" marL="3017880" indent="-335160">
              <a:spcBef>
                <a:spcPts val="11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even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f2305"/>
                </a:solidFill>
                <a:latin typeface="Franklin Gothic Medium"/>
              </a:rPr>
              <a:t>Click to edit the title text format</a:t>
            </a: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0302480" y="110880"/>
            <a:ext cx="400068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970520" y="110880"/>
            <a:ext cx="533232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p>
            <a:pPr indent="0"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13091760" y="9483480"/>
            <a:ext cx="1206360" cy="36036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fld id="{F89EB53B-F5E1-4FBC-9149-B88A01DA8C78}" type="slidenum"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線コネクタ 6"/>
          <p:cNvGrpSpPr/>
          <p:nvPr/>
        </p:nvGrpSpPr>
        <p:grpSpPr>
          <a:xfrm>
            <a:off x="817560" y="1530360"/>
            <a:ext cx="13733640" cy="17280"/>
            <a:chOff x="817560" y="1530360"/>
            <a:chExt cx="13733640" cy="17280"/>
          </a:xfrm>
        </p:grpSpPr>
        <p:pic>
          <p:nvPicPr>
            <p:cNvPr id="95" name="直線コネクタ 6" descr=""/>
            <p:cNvPicPr/>
            <p:nvPr/>
          </p:nvPicPr>
          <p:blipFill>
            <a:blip r:embed="rId3"/>
            <a:stretch/>
          </p:blipFill>
          <p:spPr>
            <a:xfrm>
              <a:off x="817560" y="1530360"/>
              <a:ext cx="137336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817560" y="1539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4280" rIns="134280" tIns="-66600" bIns="-66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直線コネクタ 8"/>
          <p:cNvGrpSpPr/>
          <p:nvPr/>
        </p:nvGrpSpPr>
        <p:grpSpPr>
          <a:xfrm>
            <a:off x="817560" y="1530360"/>
            <a:ext cx="13733640" cy="17280"/>
            <a:chOff x="817560" y="1530360"/>
            <a:chExt cx="13733640" cy="17280"/>
          </a:xfrm>
        </p:grpSpPr>
        <p:pic>
          <p:nvPicPr>
            <p:cNvPr id="98" name="直線コネクタ 8" descr=""/>
            <p:cNvPicPr/>
            <p:nvPr/>
          </p:nvPicPr>
          <p:blipFill>
            <a:blip r:embed="rId4"/>
            <a:stretch/>
          </p:blipFill>
          <p:spPr>
            <a:xfrm>
              <a:off x="817560" y="1530360"/>
              <a:ext cx="137336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17560" y="1539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4280" rIns="134280" tIns="-66600" bIns="-66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直線コネクタ 11"/>
          <p:cNvGrpSpPr/>
          <p:nvPr/>
        </p:nvGrpSpPr>
        <p:grpSpPr>
          <a:xfrm>
            <a:off x="817560" y="1542960"/>
            <a:ext cx="13733640" cy="17640"/>
            <a:chOff x="817560" y="1542960"/>
            <a:chExt cx="13733640" cy="17640"/>
          </a:xfrm>
        </p:grpSpPr>
        <p:pic>
          <p:nvPicPr>
            <p:cNvPr id="101" name="直線コネクタ 11" descr=""/>
            <p:cNvPicPr/>
            <p:nvPr/>
          </p:nvPicPr>
          <p:blipFill>
            <a:blip r:embed="rId5"/>
            <a:stretch/>
          </p:blipFill>
          <p:spPr>
            <a:xfrm>
              <a:off x="817560" y="1542960"/>
              <a:ext cx="137336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17560" y="1549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4280" rIns="134280" tIns="-66600" bIns="-66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marL="501480" indent="-50148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Click to edit the outline text format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1" marL="1089000" indent="-41904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econd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2" marL="167652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Third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3" marL="234648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Four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4" marL="3017880" indent="-335160">
              <a:spcBef>
                <a:spcPts val="1176"/>
              </a:spcBef>
              <a:buClr>
                <a:srgbClr val="b94b2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Fif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5" marL="3017880" indent="-335160">
              <a:spcBef>
                <a:spcPts val="11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ix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6" marL="3017880" indent="-335160">
              <a:spcBef>
                <a:spcPts val="11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even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f2305"/>
                </a:solidFill>
                <a:latin typeface="Franklin Gothic Medium"/>
              </a:rPr>
              <a:t>Click to edit the title text format</a:t>
            </a: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10302480" y="110880"/>
            <a:ext cx="400068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5697000" y="110880"/>
            <a:ext cx="460548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p>
            <a:pPr indent="0"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3091760" y="9483480"/>
            <a:ext cx="1206360" cy="36036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fld id="{8AA86F0D-A650-4C05-9367-7FE31D4B0F3D}" type="slidenum"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線コネクタ 12"/>
          <p:cNvGrpSpPr/>
          <p:nvPr/>
        </p:nvGrpSpPr>
        <p:grpSpPr>
          <a:xfrm>
            <a:off x="817560" y="5035680"/>
            <a:ext cx="13733640" cy="23760"/>
            <a:chOff x="817560" y="5035680"/>
            <a:chExt cx="13733640" cy="23760"/>
          </a:xfrm>
        </p:grpSpPr>
        <p:pic>
          <p:nvPicPr>
            <p:cNvPr id="145" name="直線コネクタ 12" descr=""/>
            <p:cNvPicPr/>
            <p:nvPr/>
          </p:nvPicPr>
          <p:blipFill>
            <a:blip r:embed="rId3"/>
            <a:stretch/>
          </p:blipFill>
          <p:spPr>
            <a:xfrm>
              <a:off x="817560" y="5035680"/>
              <a:ext cx="1373364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17560" y="5046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4280" rIns="134280" tIns="-66600" bIns="-66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marL="501480" indent="-50148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7bb07b"/>
                </a:solidFill>
                <a:latin typeface="Franklin Gothic Book"/>
              </a:rPr>
              <a:t>Click to edit the outline text format</a:t>
            </a:r>
            <a:endParaRPr b="0" lang="en-US" sz="4700" spc="-1" strike="noStrike">
              <a:solidFill>
                <a:srgbClr val="7bb07b"/>
              </a:solidFill>
              <a:latin typeface="Franklin Gothic Book"/>
            </a:endParaRPr>
          </a:p>
          <a:p>
            <a:pPr lvl="1" marL="1089000" indent="-41904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7bb07b"/>
                </a:solidFill>
                <a:latin typeface="Franklin Gothic Book"/>
              </a:rPr>
              <a:t>Second Outline Level</a:t>
            </a:r>
            <a:endParaRPr b="0" lang="en-US" sz="4700" spc="-1" strike="noStrike">
              <a:solidFill>
                <a:srgbClr val="7bb07b"/>
              </a:solidFill>
              <a:latin typeface="Franklin Gothic Book"/>
            </a:endParaRPr>
          </a:p>
          <a:p>
            <a:pPr lvl="2" marL="167652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7bb07b"/>
                </a:solidFill>
                <a:latin typeface="Franklin Gothic Book"/>
              </a:rPr>
              <a:t>Third Outline Level</a:t>
            </a:r>
            <a:endParaRPr b="0" lang="en-US" sz="4700" spc="-1" strike="noStrike">
              <a:solidFill>
                <a:srgbClr val="7bb07b"/>
              </a:solidFill>
              <a:latin typeface="Franklin Gothic Book"/>
            </a:endParaRPr>
          </a:p>
          <a:p>
            <a:pPr lvl="3" marL="234648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7bb07b"/>
                </a:solidFill>
                <a:latin typeface="Franklin Gothic Book"/>
              </a:rPr>
              <a:t>Fourth Outline Level</a:t>
            </a:r>
            <a:endParaRPr b="0" lang="en-US" sz="4700" spc="-1" strike="noStrike">
              <a:solidFill>
                <a:srgbClr val="7bb07b"/>
              </a:solidFill>
              <a:latin typeface="Franklin Gothic Book"/>
            </a:endParaRPr>
          </a:p>
          <a:p>
            <a:pPr lvl="4" marL="3017880" indent="-335160">
              <a:spcBef>
                <a:spcPts val="1176"/>
              </a:spcBef>
              <a:buClr>
                <a:srgbClr val="b94b2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7bb07b"/>
                </a:solidFill>
                <a:latin typeface="Franklin Gothic Book"/>
              </a:rPr>
              <a:t>Fifth Outline Level</a:t>
            </a:r>
            <a:endParaRPr b="0" lang="en-US" sz="4700" spc="-1" strike="noStrike">
              <a:solidFill>
                <a:srgbClr val="7bb07b"/>
              </a:solidFill>
              <a:latin typeface="Franklin Gothic Book"/>
            </a:endParaRPr>
          </a:p>
          <a:p>
            <a:pPr lvl="5" marL="3017880" indent="-335160">
              <a:spcBef>
                <a:spcPts val="11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7bb07b"/>
                </a:solidFill>
                <a:latin typeface="Franklin Gothic Book"/>
              </a:rPr>
              <a:t>Sixth Outline Level</a:t>
            </a:r>
            <a:endParaRPr b="0" lang="en-US" sz="4700" spc="-1" strike="noStrike">
              <a:solidFill>
                <a:srgbClr val="7bb07b"/>
              </a:solidFill>
              <a:latin typeface="Franklin Gothic Book"/>
            </a:endParaRPr>
          </a:p>
          <a:p>
            <a:pPr lvl="6" marL="3017880" indent="-335160">
              <a:spcBef>
                <a:spcPts val="11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7bb07b"/>
                </a:solidFill>
                <a:latin typeface="Franklin Gothic Book"/>
              </a:rPr>
              <a:t>Seventh Outline Level</a:t>
            </a:r>
            <a:endParaRPr b="0" lang="en-US" sz="4700" spc="-1" strike="noStrike">
              <a:solidFill>
                <a:srgbClr val="7bb07b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7bb07b"/>
                </a:solidFill>
                <a:latin typeface="Franklin Gothic Medium"/>
              </a:rPr>
              <a:t>Click to edit the title text format</a:t>
            </a:r>
            <a:endParaRPr b="0" lang="en-US" sz="5200" spc="-1" strike="noStrike">
              <a:solidFill>
                <a:srgbClr val="7bb07b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10302480" y="110880"/>
            <a:ext cx="400068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970520" y="110880"/>
            <a:ext cx="533232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p>
            <a:pPr indent="0"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3091760" y="9487080"/>
            <a:ext cx="1211400" cy="35856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fld id="{A277FEF4-69A2-44CA-A5C2-0CF598FF7709}" type="slidenum"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線コネクタ 12"/>
          <p:cNvGrpSpPr/>
          <p:nvPr/>
        </p:nvGrpSpPr>
        <p:grpSpPr>
          <a:xfrm>
            <a:off x="817560" y="8809200"/>
            <a:ext cx="13733640" cy="17280"/>
            <a:chOff x="817560" y="8809200"/>
            <a:chExt cx="13733640" cy="17280"/>
          </a:xfrm>
        </p:grpSpPr>
        <p:pic>
          <p:nvPicPr>
            <p:cNvPr id="189" name="直線コネクタ 12" descr=""/>
            <p:cNvPicPr/>
            <p:nvPr/>
          </p:nvPicPr>
          <p:blipFill>
            <a:blip r:embed="rId3"/>
            <a:stretch/>
          </p:blipFill>
          <p:spPr>
            <a:xfrm>
              <a:off x="817560" y="8809200"/>
              <a:ext cx="137336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17560" y="8818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4280" rIns="134280" tIns="-66600" bIns="-66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marL="501480" indent="-50148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Click to edit the outline text format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1" marL="1089000" indent="-41904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econd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2" marL="167652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Third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3" marL="234648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Four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4" marL="3017880" indent="-335160">
              <a:spcBef>
                <a:spcPts val="1176"/>
              </a:spcBef>
              <a:buClr>
                <a:srgbClr val="b94b2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Fif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5" marL="3017880" indent="-335160">
              <a:spcBef>
                <a:spcPts val="11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ix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6" marL="3017880" indent="-335160">
              <a:spcBef>
                <a:spcPts val="11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even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f2305"/>
                </a:solidFill>
                <a:latin typeface="Franklin Gothic Medium"/>
              </a:rPr>
              <a:t>Click to edit the title text format</a:t>
            </a: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10302480" y="110880"/>
            <a:ext cx="400068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4970520" y="110880"/>
            <a:ext cx="533232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p>
            <a:pPr indent="0"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13091760" y="9486720"/>
            <a:ext cx="1211400" cy="3618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fld id="{F9A56223-6613-405A-881A-B73E43E55E8E}" type="slidenum"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marL="501480" indent="-50148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Click to edit the outline text format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1" marL="1089000" indent="-41904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econd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2" marL="167652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Third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3" marL="234648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Four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4" marL="3017880" indent="-335160">
              <a:spcBef>
                <a:spcPts val="1176"/>
              </a:spcBef>
              <a:buClr>
                <a:srgbClr val="b94b2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Fif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5" marL="3017880" indent="-335160">
              <a:spcBef>
                <a:spcPts val="11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ix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6" marL="3017880" indent="-335160">
              <a:spcBef>
                <a:spcPts val="11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even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f2305"/>
                </a:solidFill>
                <a:latin typeface="Franklin Gothic Medium"/>
              </a:rPr>
              <a:t>Click to edit the title text format</a:t>
            </a: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10302480" y="110880"/>
            <a:ext cx="400068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4970520" y="110880"/>
            <a:ext cx="533232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p>
            <a:pPr indent="0"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13091760" y="9487080"/>
            <a:ext cx="1211400" cy="35856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fld id="{FE2AD913-C1FA-4ECA-AECB-9A9026B6289C}" type="slidenum"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線コネクタ 12"/>
          <p:cNvGrpSpPr/>
          <p:nvPr/>
        </p:nvGrpSpPr>
        <p:grpSpPr>
          <a:xfrm>
            <a:off x="817560" y="8558280"/>
            <a:ext cx="13733640" cy="19080"/>
            <a:chOff x="817560" y="8558280"/>
            <a:chExt cx="13733640" cy="19080"/>
          </a:xfrm>
        </p:grpSpPr>
        <p:pic>
          <p:nvPicPr>
            <p:cNvPr id="274" name="直線コネクタ 12" descr=""/>
            <p:cNvPicPr/>
            <p:nvPr/>
          </p:nvPicPr>
          <p:blipFill>
            <a:blip r:embed="rId3"/>
            <a:stretch/>
          </p:blipFill>
          <p:spPr>
            <a:xfrm>
              <a:off x="817560" y="8558280"/>
              <a:ext cx="137336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817560" y="8567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4280" rIns="134280" tIns="-66600" bIns="-66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marL="501480" indent="-50148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Click to edit the outline text format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1" marL="1089000" indent="-41904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econd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2" marL="167652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Third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3" marL="234648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Four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4" marL="3017880" indent="-335160">
              <a:spcBef>
                <a:spcPts val="1176"/>
              </a:spcBef>
              <a:buClr>
                <a:srgbClr val="b94b2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Fif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5" marL="3017880" indent="-335160">
              <a:spcBef>
                <a:spcPts val="11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ix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6" marL="3017880" indent="-335160">
              <a:spcBef>
                <a:spcPts val="11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even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f2305"/>
                </a:solidFill>
                <a:latin typeface="Franklin Gothic Medium"/>
              </a:rPr>
              <a:t>Click to edit the title text format</a:t>
            </a: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10302480" y="110880"/>
            <a:ext cx="400068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4970520" y="110880"/>
            <a:ext cx="533232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p>
            <a:pPr indent="0"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13091760" y="9487080"/>
            <a:ext cx="1211400" cy="35856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fld id="{1E48EB2E-871E-4713-AF5A-B5B68E7D7BED}" type="slidenum"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marL="501480" indent="-50148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Click to edit the outline text format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1" marL="1089000" indent="-41904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econd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2" marL="167652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Third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3" marL="234648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Four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4" marL="3017880" indent="-335160">
              <a:spcBef>
                <a:spcPts val="1176"/>
              </a:spcBef>
              <a:buClr>
                <a:srgbClr val="b94b2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Fif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5" marL="3017880" indent="-335160">
              <a:spcBef>
                <a:spcPts val="11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ix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6" marL="3017880" indent="-335160">
              <a:spcBef>
                <a:spcPts val="11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even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f2305"/>
                </a:solidFill>
                <a:latin typeface="Franklin Gothic Medium"/>
              </a:rPr>
              <a:t>Click to edit the title text format</a:t>
            </a: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10302480" y="110880"/>
            <a:ext cx="400068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4970520" y="110880"/>
            <a:ext cx="533232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p>
            <a:pPr indent="0"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13091760" y="9487080"/>
            <a:ext cx="1211400" cy="35856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fld id="{B4E97D8B-E563-428C-BCBD-D0B2EF5FC363}" type="slidenum"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483840" y="2276280"/>
            <a:ext cx="13819320" cy="662940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rmAutofit/>
          </a:bodyPr>
          <a:p>
            <a:pPr marL="501480" indent="-50148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Click to edit the outline text format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1" marL="1089000" indent="-41904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econd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2" marL="167652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Third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3" marL="2346480" indent="-335160">
              <a:spcBef>
                <a:spcPts val="1176"/>
              </a:spcBef>
              <a:buClr>
                <a:srgbClr val="b94b2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Four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4" marL="3017880" indent="-335160">
              <a:spcBef>
                <a:spcPts val="1176"/>
              </a:spcBef>
              <a:buClr>
                <a:srgbClr val="b94b2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Fif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5" marL="3017880" indent="-335160">
              <a:spcBef>
                <a:spcPts val="11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ix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  <a:p>
            <a:pPr lvl="6" marL="3017880" indent="-335160">
              <a:spcBef>
                <a:spcPts val="11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f2305"/>
                </a:solidFill>
                <a:latin typeface="Franklin Gothic Book"/>
              </a:rPr>
              <a:t>Seventh Outline Level</a:t>
            </a:r>
            <a:endParaRPr b="0" lang="en-US" sz="4700" spc="-1" strike="noStrike">
              <a:solidFill>
                <a:srgbClr val="0f2305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83840" y="669600"/>
            <a:ext cx="13819320" cy="122724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f2305"/>
                </a:solidFill>
                <a:latin typeface="Franklin Gothic Medium"/>
              </a:rPr>
              <a:t>Click to edit the title text format</a:t>
            </a:r>
            <a:endParaRPr b="0" lang="en-US" sz="5200" spc="-1" strike="noStrike">
              <a:solidFill>
                <a:srgbClr val="0f2305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10302480" y="110880"/>
            <a:ext cx="400068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970520" y="110880"/>
            <a:ext cx="5332320" cy="42372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p>
            <a:pPr indent="0"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13091760" y="9487080"/>
            <a:ext cx="1211400" cy="358560"/>
          </a:xfrm>
          <a:prstGeom prst="rect">
            <a:avLst/>
          </a:prstGeom>
          <a:noFill/>
          <a:ln w="0">
            <a:noFill/>
          </a:ln>
        </p:spPr>
        <p:txBody>
          <a:bodyPr lIns="134280" rIns="134280" tIns="66960" bIns="66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  <a:def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fld id="{C030AA85-D735-405B-96A5-910CD185F5A8}" type="slidenum">
              <a:rPr b="0" lang="ja-JP" sz="1800" spc="-1" strike="noStrike">
                <a:solidFill>
                  <a:srgbClr val="a34126"/>
                </a:solidFill>
                <a:latin typeface="Franklin Gothic Book"/>
                <a:ea typeface="メイリオ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image" Target="../media/image31.png"/><Relationship Id="rId24" Type="http://schemas.openxmlformats.org/officeDocument/2006/relationships/image" Target="../media/image32.png"/><Relationship Id="rId25" Type="http://schemas.openxmlformats.org/officeDocument/2006/relationships/slideLayout" Target="../slideLayouts/slideLayout13.xml"/><Relationship Id="rId2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円/楕円 171"/>
          <p:cNvSpPr/>
          <p:nvPr/>
        </p:nvSpPr>
        <p:spPr>
          <a:xfrm>
            <a:off x="3486240" y="1808280"/>
            <a:ext cx="7645320" cy="607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bb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テキスト ボックス 4" descr=""/>
          <p:cNvPicPr/>
          <p:nvPr/>
        </p:nvPicPr>
        <p:blipFill>
          <a:blip r:embed="rId1"/>
          <a:stretch/>
        </p:blipFill>
        <p:spPr>
          <a:xfrm>
            <a:off x="1054080" y="-6480"/>
            <a:ext cx="12380760" cy="847800"/>
          </a:xfrm>
          <a:prstGeom prst="rect">
            <a:avLst/>
          </a:prstGeom>
          <a:ln w="0">
            <a:noFill/>
          </a:ln>
        </p:spPr>
      </p:pic>
      <p:sp>
        <p:nvSpPr>
          <p:cNvPr id="408" name="テキスト ボックス 6"/>
          <p:cNvSpPr/>
          <p:nvPr/>
        </p:nvSpPr>
        <p:spPr>
          <a:xfrm>
            <a:off x="1291680" y="736560"/>
            <a:ext cx="2234520" cy="1373760"/>
          </a:xfrm>
          <a:prstGeom prst="rect">
            <a:avLst/>
          </a:prstGeom>
          <a:solidFill>
            <a:srgbClr val="ffffff"/>
          </a:solidFill>
          <a:ln w="28440">
            <a:solidFill>
              <a:srgbClr val="a97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　☑住宅品質・技術には自信があるが、上手く</a:t>
            </a:r>
            <a:r>
              <a:rPr b="0" lang="en-US" sz="12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PR</a:t>
            </a:r>
            <a:r>
              <a:rPr b="0" lang="ja-JP" sz="12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できていない</a:t>
            </a: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　☑展示場に</a:t>
            </a:r>
            <a:r>
              <a:rPr b="0" lang="ja-JP" sz="12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来場さえ</a:t>
            </a: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してくれれば、成約には自信があ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　☑ホームページを作ったが</a:t>
            </a:r>
            <a:r>
              <a:rPr b="0" lang="ja-JP" sz="12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見てもらえているか</a:t>
            </a: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わか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　☑この不況で、</a:t>
            </a:r>
            <a:r>
              <a:rPr b="0" lang="ja-JP" sz="12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先行投資には後ろ向き</a:t>
            </a: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にならざるを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　☑チラシ、情報誌、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DM</a:t>
            </a: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、いろいろ試したが</a:t>
            </a:r>
            <a:r>
              <a:rPr b="0" lang="ja-JP" sz="12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効果を実感でき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雲形吹き出し 11"/>
          <p:cNvGrpSpPr/>
          <p:nvPr/>
        </p:nvGrpSpPr>
        <p:grpSpPr>
          <a:xfrm>
            <a:off x="-103320" y="3267000"/>
            <a:ext cx="3773520" cy="2316240"/>
            <a:chOff x="-103320" y="3267000"/>
            <a:chExt cx="3773520" cy="2316240"/>
          </a:xfrm>
        </p:grpSpPr>
        <p:pic>
          <p:nvPicPr>
            <p:cNvPr id="410" name="雲形吹き出し 11" descr=""/>
            <p:cNvPicPr/>
            <p:nvPr/>
          </p:nvPicPr>
          <p:blipFill>
            <a:blip r:embed="rId2"/>
            <a:stretch/>
          </p:blipFill>
          <p:spPr>
            <a:xfrm>
              <a:off x="-103320" y="3267000"/>
              <a:ext cx="37735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492120" y="3578400"/>
              <a:ext cx="2333520" cy="11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テキスト ボックス 15"/>
          <p:cNvSpPr/>
          <p:nvPr/>
        </p:nvSpPr>
        <p:spPr>
          <a:xfrm>
            <a:off x="9528120" y="603360"/>
            <a:ext cx="4988160" cy="17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a97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参加費用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1" lang="ja-JP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●</a:t>
            </a:r>
            <a:r>
              <a:rPr b="1" lang="ja-JP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サイト登録料　</a:t>
            </a:r>
            <a:r>
              <a:rPr b="1" lang="en-US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100,000</a:t>
            </a:r>
            <a:r>
              <a:rPr b="1" lang="ja-JP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円</a:t>
            </a:r>
            <a:r>
              <a:rPr b="1" lang="ja-JP" sz="12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（</a:t>
            </a:r>
            <a:r>
              <a:rPr b="1" lang="en-US" sz="12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3</a:t>
            </a:r>
            <a:r>
              <a:rPr b="1" lang="ja-JP" sz="12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月</a:t>
            </a:r>
            <a:r>
              <a:rPr b="1" lang="en-US" sz="12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12</a:t>
            </a:r>
            <a:r>
              <a:rPr b="1" lang="ja-JP" sz="12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日</a:t>
            </a:r>
            <a:r>
              <a:rPr b="1" lang="en-US" sz="12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(</a:t>
            </a:r>
            <a:r>
              <a:rPr b="1" lang="ja-JP" sz="12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金</a:t>
            </a:r>
            <a:r>
              <a:rPr b="1" lang="en-US" sz="12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)</a:t>
            </a:r>
            <a:r>
              <a:rPr b="1" lang="ja-JP" sz="12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迄の申込に限り無料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1" lang="ja-JP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●</a:t>
            </a:r>
            <a:r>
              <a:rPr b="1" lang="ja-JP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カタログ代行発送　成果報酬</a:t>
            </a:r>
            <a:r>
              <a:rPr b="1" lang="en-US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1</a:t>
            </a:r>
            <a:r>
              <a:rPr b="1" lang="ja-JP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件</a:t>
            </a:r>
            <a:r>
              <a:rPr b="1" lang="en-US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1000</a:t>
            </a:r>
            <a:r>
              <a:rPr b="1" lang="ja-JP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1" lang="ja-JP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●</a:t>
            </a:r>
            <a:r>
              <a:rPr b="1" lang="ja-JP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バルクポータルからの紹介リンク　成果報酬</a:t>
            </a:r>
            <a:r>
              <a:rPr b="1" lang="en-US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1</a:t>
            </a:r>
            <a:r>
              <a:rPr b="1" lang="ja-JP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件</a:t>
            </a:r>
            <a:r>
              <a:rPr b="1" lang="en-US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200</a:t>
            </a:r>
            <a:r>
              <a:rPr b="1" lang="ja-JP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1" lang="ja-JP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●</a:t>
            </a:r>
            <a:r>
              <a:rPr b="1" lang="ja-JP" sz="1400" spc="-1" strike="noStrike">
                <a:solidFill>
                  <a:srgbClr val="0070c0"/>
                </a:solidFill>
                <a:latin typeface="Franklin Gothic Book"/>
                <a:ea typeface="メイリオ"/>
              </a:rPr>
              <a:t>成約時の販売手数料　頂戴しません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　　　</a:t>
            </a:r>
            <a:r>
              <a:rPr b="0" lang="en-US" sz="10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アクセスレポートとお客様のメールアドレスをお伝え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　　　</a:t>
            </a:r>
            <a:r>
              <a:rPr b="0" lang="en-US" sz="10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送付資料については当社で作成させていただき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　　　　現在お使いのものもそのままご使用いただけますので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　　　　初回ご参加の際に</a:t>
            </a:r>
            <a:r>
              <a:rPr b="0" lang="en-US" sz="10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部程度をお渡しください。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テキスト ボックス 24"/>
          <p:cNvSpPr/>
          <p:nvPr/>
        </p:nvSpPr>
        <p:spPr>
          <a:xfrm>
            <a:off x="4414680" y="2093760"/>
            <a:ext cx="57880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600" spc="-1" strike="noStrike">
                <a:solidFill>
                  <a:srgbClr val="3b8a14"/>
                </a:solidFill>
                <a:latin typeface="Franklin Gothic Book"/>
                <a:ea typeface="メイリオ"/>
              </a:rPr>
              <a:t>消費者視点の発想から生まれたサイ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1" lang="ja-JP" sz="2800" spc="-1" strike="noStrike">
                <a:solidFill>
                  <a:srgbClr val="c00000"/>
                </a:solidFill>
                <a:latin typeface="Franklin Gothic Book"/>
                <a:ea typeface="メイリオ"/>
              </a:rPr>
              <a:t>「北海道住宅総合館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この不況で唯一成長するインターネットの世界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伸びている特徴的なキーワードが</a:t>
            </a:r>
            <a:r>
              <a:rPr b="1" lang="ja-JP" sz="1600" spc="-1" strike="noStrike">
                <a:solidFill>
                  <a:srgbClr val="c00000"/>
                </a:solidFill>
                <a:latin typeface="Franklin Gothic Book"/>
                <a:ea typeface="メイリオ"/>
              </a:rPr>
              <a:t>「一括＝バルク」</a:t>
            </a:r>
            <a:r>
              <a:rPr b="0" lang="ja-JP" sz="16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消費者が欲しいと思うカタログを工務店・ビルダー様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Franklin Gothic Book"/>
                <a:ea typeface="メイリオ"/>
              </a:rPr>
              <a:t>代行して一括でお届けするサービス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テキスト ボックス 25" descr=""/>
          <p:cNvPicPr/>
          <p:nvPr/>
        </p:nvPicPr>
        <p:blipFill>
          <a:blip r:embed="rId3"/>
          <a:stretch/>
        </p:blipFill>
        <p:spPr>
          <a:xfrm>
            <a:off x="0" y="2712960"/>
            <a:ext cx="5078520" cy="530280"/>
          </a:xfrm>
          <a:prstGeom prst="rect">
            <a:avLst/>
          </a:prstGeom>
          <a:ln w="0">
            <a:noFill/>
          </a:ln>
        </p:spPr>
      </p:pic>
      <p:pic>
        <p:nvPicPr>
          <p:cNvPr id="415" name="テキスト ボックス 28" descr=""/>
          <p:cNvPicPr/>
          <p:nvPr/>
        </p:nvPicPr>
        <p:blipFill>
          <a:blip r:embed="rId4"/>
          <a:stretch/>
        </p:blipFill>
        <p:spPr>
          <a:xfrm>
            <a:off x="341280" y="3591000"/>
            <a:ext cx="2859120" cy="1395360"/>
          </a:xfrm>
          <a:prstGeom prst="rect">
            <a:avLst/>
          </a:prstGeom>
          <a:ln w="0">
            <a:noFill/>
          </a:ln>
        </p:spPr>
      </p:pic>
      <p:sp>
        <p:nvSpPr>
          <p:cNvPr id="416" name="二等辺三角形 170"/>
          <p:cNvSpPr/>
          <p:nvPr/>
        </p:nvSpPr>
        <p:spPr>
          <a:xfrm rot="5400000">
            <a:off x="9666720" y="4629960"/>
            <a:ext cx="2071800" cy="857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2cc"/>
              </a:gs>
              <a:gs pos="100000">
                <a:srgbClr val="ffda47"/>
              </a:gs>
            </a:gsLst>
            <a:lin ang="0"/>
          </a:gradFill>
          <a:ln w="10080">
            <a:solidFill>
              <a:srgbClr val="c8af3c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グループ化 178"/>
          <p:cNvGrpSpPr/>
          <p:nvPr/>
        </p:nvGrpSpPr>
        <p:grpSpPr>
          <a:xfrm>
            <a:off x="7533360" y="4165560"/>
            <a:ext cx="2741040" cy="1932120"/>
            <a:chOff x="7533360" y="4165560"/>
            <a:chExt cx="2741040" cy="1932120"/>
          </a:xfrm>
        </p:grpSpPr>
        <p:pic>
          <p:nvPicPr>
            <p:cNvPr id="418" name="Picture 6" descr=""/>
            <p:cNvPicPr/>
            <p:nvPr/>
          </p:nvPicPr>
          <p:blipFill>
            <a:blip r:embed="rId5"/>
            <a:stretch/>
          </p:blipFill>
          <p:spPr>
            <a:xfrm>
              <a:off x="8290080" y="5262120"/>
              <a:ext cx="1141920" cy="82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7" descr=""/>
            <p:cNvPicPr/>
            <p:nvPr/>
          </p:nvPicPr>
          <p:blipFill>
            <a:blip r:embed="rId6"/>
            <a:stretch/>
          </p:blipFill>
          <p:spPr>
            <a:xfrm rot="20040000">
              <a:off x="7629480" y="4829040"/>
              <a:ext cx="500760" cy="554400"/>
            </a:xfrm>
            <a:prstGeom prst="rect">
              <a:avLst/>
            </a:prstGeom>
            <a:ln w="9360">
              <a:solidFill>
                <a:srgbClr val="d9d9d9"/>
              </a:solidFill>
              <a:miter/>
            </a:ln>
          </p:spPr>
        </p:pic>
        <p:pic>
          <p:nvPicPr>
            <p:cNvPr id="420" name="Picture 8" descr=""/>
            <p:cNvPicPr/>
            <p:nvPr/>
          </p:nvPicPr>
          <p:blipFill>
            <a:blip r:embed="rId7"/>
            <a:stretch/>
          </p:blipFill>
          <p:spPr>
            <a:xfrm>
              <a:off x="9646200" y="4735800"/>
              <a:ext cx="464400" cy="557640"/>
            </a:xfrm>
            <a:prstGeom prst="rect">
              <a:avLst/>
            </a:prstGeom>
            <a:ln w="9360">
              <a:solidFill>
                <a:srgbClr val="d9d9d9"/>
              </a:solidFill>
              <a:miter/>
            </a:ln>
          </p:spPr>
        </p:pic>
        <p:pic>
          <p:nvPicPr>
            <p:cNvPr id="421" name="Picture 9" descr=""/>
            <p:cNvPicPr/>
            <p:nvPr/>
          </p:nvPicPr>
          <p:blipFill>
            <a:blip r:embed="rId8"/>
            <a:stretch/>
          </p:blipFill>
          <p:spPr>
            <a:xfrm>
              <a:off x="8076600" y="4308120"/>
              <a:ext cx="486720" cy="606600"/>
            </a:xfrm>
            <a:prstGeom prst="rect">
              <a:avLst/>
            </a:prstGeom>
            <a:ln w="9360">
              <a:solidFill>
                <a:srgbClr val="d9d9d9"/>
              </a:solidFill>
              <a:miter/>
            </a:ln>
          </p:spPr>
        </p:pic>
        <p:pic>
          <p:nvPicPr>
            <p:cNvPr id="422" name="Picture 11" descr=""/>
            <p:cNvPicPr/>
            <p:nvPr/>
          </p:nvPicPr>
          <p:blipFill>
            <a:blip r:embed="rId9"/>
            <a:stretch/>
          </p:blipFill>
          <p:spPr>
            <a:xfrm>
              <a:off x="9240480" y="4289040"/>
              <a:ext cx="405720" cy="628920"/>
            </a:xfrm>
            <a:prstGeom prst="rect">
              <a:avLst/>
            </a:prstGeom>
            <a:ln w="9360">
              <a:solidFill>
                <a:srgbClr val="d9d9d9"/>
              </a:solidFill>
              <a:miter/>
            </a:ln>
          </p:spPr>
        </p:pic>
        <p:pic>
          <p:nvPicPr>
            <p:cNvPr id="423" name="Picture 12" descr=""/>
            <p:cNvPicPr/>
            <p:nvPr/>
          </p:nvPicPr>
          <p:blipFill>
            <a:blip r:embed="rId10"/>
            <a:stretch/>
          </p:blipFill>
          <p:spPr>
            <a:xfrm>
              <a:off x="8718480" y="4165560"/>
              <a:ext cx="415440" cy="597240"/>
            </a:xfrm>
            <a:prstGeom prst="rect">
              <a:avLst/>
            </a:prstGeom>
            <a:ln w="9360">
              <a:solidFill>
                <a:srgbClr val="d9d9d9"/>
              </a:solidFill>
              <a:miter/>
            </a:ln>
          </p:spPr>
        </p:pic>
        <p:pic>
          <p:nvPicPr>
            <p:cNvPr id="424" name="テキスト ボックス 172" descr=""/>
            <p:cNvPicPr/>
            <p:nvPr/>
          </p:nvPicPr>
          <p:blipFill>
            <a:blip r:embed="rId11"/>
            <a:stretch/>
          </p:blipFill>
          <p:spPr>
            <a:xfrm>
              <a:off x="7717320" y="5446800"/>
              <a:ext cx="25570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右矢印 173"/>
            <p:cNvSpPr/>
            <p:nvPr/>
          </p:nvSpPr>
          <p:spPr>
            <a:xfrm rot="3085800">
              <a:off x="8355960" y="5035680"/>
              <a:ext cx="269280" cy="115560"/>
            </a:xfrm>
            <a:prstGeom prst="rightArrow">
              <a:avLst>
                <a:gd name="adj1" fmla="val 50000"/>
                <a:gd name="adj2" fmla="val 50002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右矢印 175"/>
            <p:cNvSpPr/>
            <p:nvPr/>
          </p:nvSpPr>
          <p:spPr>
            <a:xfrm rot="8080800">
              <a:off x="9218520" y="5040360"/>
              <a:ext cx="269280" cy="115560"/>
            </a:xfrm>
            <a:prstGeom prst="rightArrow">
              <a:avLst>
                <a:gd name="adj1" fmla="val 50000"/>
                <a:gd name="adj2" fmla="val 50002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右矢印 176"/>
            <p:cNvSpPr/>
            <p:nvPr/>
          </p:nvSpPr>
          <p:spPr>
            <a:xfrm rot="5400000">
              <a:off x="8784000" y="4955040"/>
              <a:ext cx="269280" cy="115560"/>
            </a:xfrm>
            <a:prstGeom prst="rightArrow">
              <a:avLst>
                <a:gd name="adj1" fmla="val 50000"/>
                <a:gd name="adj2" fmla="val 50002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二等辺三角形 120"/>
          <p:cNvSpPr/>
          <p:nvPr/>
        </p:nvSpPr>
        <p:spPr>
          <a:xfrm rot="5400000">
            <a:off x="3128760" y="4808520"/>
            <a:ext cx="2071800" cy="785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2cc"/>
              </a:gs>
              <a:gs pos="100000">
                <a:srgbClr val="ffda47"/>
              </a:gs>
            </a:gsLst>
            <a:lin ang="0"/>
          </a:gradFill>
          <a:ln w="10080">
            <a:solidFill>
              <a:srgbClr val="c8af3c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円形吹き出し 121"/>
          <p:cNvSpPr/>
          <p:nvPr/>
        </p:nvSpPr>
        <p:spPr>
          <a:xfrm flipH="1">
            <a:off x="11045160" y="3308400"/>
            <a:ext cx="3500280" cy="1670040"/>
          </a:xfrm>
          <a:prstGeom prst="wedgeEllipseCallout">
            <a:avLst>
              <a:gd name="adj1" fmla="val -18930"/>
              <a:gd name="adj2" fmla="val 66337"/>
            </a:avLst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テキスト ボックス 122" descr=""/>
          <p:cNvPicPr/>
          <p:nvPr/>
        </p:nvPicPr>
        <p:blipFill>
          <a:blip r:embed="rId12"/>
          <a:stretch/>
        </p:blipFill>
        <p:spPr>
          <a:xfrm>
            <a:off x="10558440" y="2712960"/>
            <a:ext cx="4303800" cy="530280"/>
          </a:xfrm>
          <a:prstGeom prst="rect">
            <a:avLst/>
          </a:prstGeom>
          <a:ln w="0">
            <a:noFill/>
          </a:ln>
        </p:spPr>
      </p:pic>
      <p:pic>
        <p:nvPicPr>
          <p:cNvPr id="431" name="テキスト ボックス 123" descr=""/>
          <p:cNvPicPr/>
          <p:nvPr/>
        </p:nvPicPr>
        <p:blipFill>
          <a:blip r:embed="rId13"/>
          <a:stretch/>
        </p:blipFill>
        <p:spPr>
          <a:xfrm>
            <a:off x="11234880" y="3664080"/>
            <a:ext cx="3182760" cy="117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"/>
          <p:cNvPicPr/>
          <p:nvPr/>
        </p:nvPicPr>
        <p:blipFill>
          <a:blip r:embed="rId14"/>
          <a:stretch/>
        </p:blipFill>
        <p:spPr>
          <a:xfrm>
            <a:off x="268200" y="5516640"/>
            <a:ext cx="3218040" cy="17794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15"/>
          <a:stretch/>
        </p:blipFill>
        <p:spPr>
          <a:xfrm>
            <a:off x="10558440" y="7023240"/>
            <a:ext cx="1219320" cy="7855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16"/>
          <a:stretch/>
        </p:blipFill>
        <p:spPr>
          <a:xfrm>
            <a:off x="11558520" y="6735600"/>
            <a:ext cx="1077840" cy="7923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17"/>
          <a:stretch/>
        </p:blipFill>
        <p:spPr>
          <a:xfrm>
            <a:off x="12411000" y="7089840"/>
            <a:ext cx="1139760" cy="6588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"/>
          <p:cNvPicPr/>
          <p:nvPr/>
        </p:nvPicPr>
        <p:blipFill>
          <a:blip r:embed="rId18"/>
          <a:stretch/>
        </p:blipFill>
        <p:spPr>
          <a:xfrm>
            <a:off x="13338000" y="6802560"/>
            <a:ext cx="1079640" cy="7016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"/>
          <p:cNvPicPr/>
          <p:nvPr/>
        </p:nvPicPr>
        <p:blipFill>
          <a:blip r:embed="rId19"/>
          <a:stretch/>
        </p:blipFill>
        <p:spPr>
          <a:xfrm>
            <a:off x="11271240" y="5162400"/>
            <a:ext cx="2170080" cy="16401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"/>
          <p:cNvPicPr/>
          <p:nvPr/>
        </p:nvPicPr>
        <p:blipFill>
          <a:blip r:embed="rId20"/>
          <a:stretch/>
        </p:blipFill>
        <p:spPr>
          <a:xfrm>
            <a:off x="13484160" y="5162400"/>
            <a:ext cx="9082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39" name="グループ化 164"/>
          <p:cNvGrpSpPr/>
          <p:nvPr/>
        </p:nvGrpSpPr>
        <p:grpSpPr>
          <a:xfrm>
            <a:off x="4843440" y="4165560"/>
            <a:ext cx="2500200" cy="2928960"/>
            <a:chOff x="4843440" y="4165560"/>
            <a:chExt cx="2500200" cy="2928960"/>
          </a:xfrm>
        </p:grpSpPr>
        <p:grpSp>
          <p:nvGrpSpPr>
            <p:cNvPr id="440" name="グループ化 162"/>
            <p:cNvGrpSpPr/>
            <p:nvPr/>
          </p:nvGrpSpPr>
          <p:grpSpPr>
            <a:xfrm>
              <a:off x="4843440" y="4165560"/>
              <a:ext cx="2500200" cy="2861640"/>
              <a:chOff x="4843440" y="4165560"/>
              <a:chExt cx="2500200" cy="2861640"/>
            </a:xfrm>
          </p:grpSpPr>
          <p:pic>
            <p:nvPicPr>
              <p:cNvPr id="441" name="Picture 9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3440" y="4165560"/>
                <a:ext cx="2456640" cy="16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Picture 11" descr=""/>
              <p:cNvPicPr/>
              <p:nvPr/>
            </p:nvPicPr>
            <p:blipFill>
              <a:blip r:embed="rId22"/>
              <a:stretch/>
            </p:blipFill>
            <p:spPr>
              <a:xfrm>
                <a:off x="6703920" y="4842720"/>
                <a:ext cx="436680" cy="34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3" name="Picture 12" descr=""/>
              <p:cNvPicPr/>
              <p:nvPr/>
            </p:nvPicPr>
            <p:blipFill>
              <a:blip r:embed="rId23"/>
              <a:stretch/>
            </p:blipFill>
            <p:spPr>
              <a:xfrm>
                <a:off x="6838920" y="5209920"/>
                <a:ext cx="432000" cy="26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Picture 13" descr=""/>
              <p:cNvPicPr/>
              <p:nvPr/>
            </p:nvPicPr>
            <p:blipFill>
              <a:blip r:embed="rId24"/>
              <a:stretch/>
            </p:blipFill>
            <p:spPr>
              <a:xfrm>
                <a:off x="4846680" y="5890320"/>
                <a:ext cx="2496960" cy="1136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5" name="正方形/長方形 163"/>
            <p:cNvSpPr/>
            <p:nvPr/>
          </p:nvSpPr>
          <p:spPr>
            <a:xfrm>
              <a:off x="4843440" y="4165560"/>
              <a:ext cx="2432160" cy="2928960"/>
            </a:xfrm>
            <a:prstGeom prst="rect">
              <a:avLst/>
            </a:prstGeom>
            <a:noFill/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テキスト ボックス 109"/>
          <p:cNvSpPr/>
          <p:nvPr/>
        </p:nvSpPr>
        <p:spPr>
          <a:xfrm>
            <a:off x="7756200" y="6308640"/>
            <a:ext cx="187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1" lang="ja-JP" sz="1400" spc="-1" strike="noStrike">
                <a:solidFill>
                  <a:srgbClr val="339966"/>
                </a:solidFill>
                <a:latin typeface="Franklin Gothic Book"/>
                <a:ea typeface="メイリオ"/>
              </a:rPr>
              <a:t>●</a:t>
            </a:r>
            <a:r>
              <a:rPr b="1" lang="ja-JP" sz="1400" spc="-1" strike="noStrike">
                <a:solidFill>
                  <a:srgbClr val="339966"/>
                </a:solidFill>
                <a:latin typeface="Franklin Gothic Book"/>
                <a:ea typeface="メイリオ"/>
              </a:rPr>
              <a:t>欲しいカタログの一括請求機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1" lang="ja-JP" sz="1400" spc="-1" strike="noStrike">
                <a:solidFill>
                  <a:srgbClr val="339966"/>
                </a:solidFill>
                <a:latin typeface="Franklin Gothic Book"/>
                <a:ea typeface="メイリオ"/>
              </a:rPr>
              <a:t>●</a:t>
            </a:r>
            <a:r>
              <a:rPr b="1" lang="ja-JP" sz="1400" spc="-1" strike="noStrike">
                <a:solidFill>
                  <a:srgbClr val="339966"/>
                </a:solidFill>
                <a:latin typeface="Franklin Gothic Book"/>
                <a:ea typeface="メイリオ"/>
              </a:rPr>
              <a:t>匿名で資料請求機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1" lang="ja-JP" sz="1400" spc="-1" strike="noStrike">
                <a:solidFill>
                  <a:srgbClr val="339966"/>
                </a:solidFill>
                <a:latin typeface="Franklin Gothic Book"/>
                <a:ea typeface="メイリオ"/>
              </a:rPr>
              <a:t>●</a:t>
            </a:r>
            <a:r>
              <a:rPr b="1" lang="ja-JP" sz="1400" spc="-1" strike="noStrike">
                <a:solidFill>
                  <a:srgbClr val="339966"/>
                </a:solidFill>
                <a:latin typeface="Franklin Gothic Book"/>
                <a:ea typeface="メイリオ"/>
              </a:rPr>
              <a:t>参加会社ページへのリンク機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1" lang="ja-JP" sz="1400" spc="-1" strike="noStrike">
                <a:solidFill>
                  <a:srgbClr val="339966"/>
                </a:solidFill>
                <a:latin typeface="Franklin Gothic Book"/>
                <a:ea typeface="メイリオ"/>
              </a:rPr>
              <a:t>●</a:t>
            </a:r>
            <a:r>
              <a:rPr b="1" lang="ja-JP" sz="1400" spc="-1" strike="noStrike">
                <a:solidFill>
                  <a:srgbClr val="339966"/>
                </a:solidFill>
                <a:latin typeface="Franklin Gothic Book"/>
                <a:ea typeface="メイリオ"/>
              </a:rPr>
              <a:t>アクセス解析機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グループ化 165"/>
          <p:cNvGrpSpPr/>
          <p:nvPr/>
        </p:nvGrpSpPr>
        <p:grpSpPr>
          <a:xfrm>
            <a:off x="142920" y="8166240"/>
            <a:ext cx="14274720" cy="1785960"/>
            <a:chOff x="142920" y="8166240"/>
            <a:chExt cx="14274720" cy="1785960"/>
          </a:xfrm>
        </p:grpSpPr>
        <p:sp>
          <p:nvSpPr>
            <p:cNvPr id="448" name="角丸四角形 166"/>
            <p:cNvSpPr/>
            <p:nvPr/>
          </p:nvSpPr>
          <p:spPr>
            <a:xfrm>
              <a:off x="11274480" y="8166240"/>
              <a:ext cx="3128760" cy="17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8888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角丸四角形 167"/>
            <p:cNvSpPr/>
            <p:nvPr/>
          </p:nvSpPr>
          <p:spPr>
            <a:xfrm>
              <a:off x="7559640" y="8166240"/>
              <a:ext cx="3128760" cy="17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8888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角丸四角形 168"/>
            <p:cNvSpPr/>
            <p:nvPr/>
          </p:nvSpPr>
          <p:spPr>
            <a:xfrm>
              <a:off x="3857400" y="8166240"/>
              <a:ext cx="3130560" cy="17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8888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角丸四角形 169"/>
            <p:cNvSpPr/>
            <p:nvPr/>
          </p:nvSpPr>
          <p:spPr>
            <a:xfrm>
              <a:off x="142920" y="8166240"/>
              <a:ext cx="3130560" cy="17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8888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正方形/長方形 174"/>
            <p:cNvSpPr/>
            <p:nvPr/>
          </p:nvSpPr>
          <p:spPr>
            <a:xfrm>
              <a:off x="271440" y="8332920"/>
              <a:ext cx="291600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Franklin Gothic Book"/>
                  <a:ea typeface="メイリオ"/>
                </a:rPr>
                <a:t>POINT</a:t>
              </a:r>
              <a:r>
                <a:rPr b="1" lang="ja-JP" sz="2400" spc="-1" strike="noStrike">
                  <a:solidFill>
                    <a:srgbClr val="c00000"/>
                  </a:solidFill>
                  <a:latin typeface="Franklin Gothic Book"/>
                  <a:ea typeface="メイリオ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r>
                <a:rPr b="1" lang="ja-JP" sz="1400" spc="-1" strike="noStrike">
                  <a:solidFill>
                    <a:srgbClr val="404040"/>
                  </a:solidFill>
                  <a:latin typeface="Franklin Gothic Book"/>
                  <a:ea typeface="メイリオ"/>
                </a:rPr>
                <a:t>地元工務店・ハウスビルダー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r>
                <a:rPr b="1" lang="ja-JP" sz="1400" spc="-1" strike="noStrike">
                  <a:solidFill>
                    <a:srgbClr val="404040"/>
                  </a:solidFill>
                  <a:latin typeface="Franklin Gothic Book"/>
                  <a:ea typeface="メイリオ"/>
                </a:rPr>
                <a:t>カタログが一括で手に入るバルク機能で、申込がどんどん増え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正方形/長方形 177"/>
            <p:cNvSpPr/>
            <p:nvPr/>
          </p:nvSpPr>
          <p:spPr>
            <a:xfrm>
              <a:off x="3929040" y="8308800"/>
              <a:ext cx="291600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Franklin Gothic Book"/>
                  <a:ea typeface="メイリオ"/>
                </a:rPr>
                <a:t>POINT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r>
                <a:rPr b="1" lang="ja-JP" sz="1400" spc="-1" strike="noStrike">
                  <a:solidFill>
                    <a:srgbClr val="404040"/>
                  </a:solidFill>
                  <a:latin typeface="Franklin Gothic Book"/>
                  <a:ea typeface="メイリオ"/>
                </a:rPr>
                <a:t>メールアドレス以外はハウスビルダー様に公開しないルール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r>
                <a:rPr b="1" lang="ja-JP" sz="1400" spc="-1" strike="noStrike">
                  <a:solidFill>
                    <a:srgbClr val="404040"/>
                  </a:solidFill>
                  <a:latin typeface="Franklin Gothic Book"/>
                  <a:ea typeface="メイリオ"/>
                </a:rPr>
                <a:t>一般消費者が安心して申込でき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正方形/長方形 179"/>
            <p:cNvSpPr/>
            <p:nvPr/>
          </p:nvSpPr>
          <p:spPr>
            <a:xfrm>
              <a:off x="7631280" y="8308800"/>
              <a:ext cx="30715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Franklin Gothic Book"/>
                  <a:ea typeface="メイリオ"/>
                </a:rPr>
                <a:t>POINT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r>
                <a:rPr b="1" lang="ja-JP" sz="1400" spc="-1" strike="noStrike">
                  <a:solidFill>
                    <a:srgbClr val="404040"/>
                  </a:solidFill>
                  <a:latin typeface="Franklin Gothic Book"/>
                  <a:ea typeface="メイリオ"/>
                </a:rPr>
                <a:t>自社サイトへの送客もサポート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r>
                <a:rPr b="1" lang="ja-JP" sz="1400" spc="-1" strike="noStrike">
                  <a:solidFill>
                    <a:srgbClr val="404040"/>
                  </a:solidFill>
                  <a:latin typeface="Franklin Gothic Book"/>
                  <a:ea typeface="メイリオ"/>
                </a:rPr>
                <a:t>相互リンクを張る事で、自社サイトの</a:t>
              </a:r>
              <a:r>
                <a:rPr b="1" lang="en-US" sz="1400" spc="-1" strike="noStrike">
                  <a:solidFill>
                    <a:srgbClr val="404040"/>
                  </a:solidFill>
                  <a:latin typeface="Franklin Gothic Book"/>
                  <a:ea typeface="メイリオ"/>
                </a:rPr>
                <a:t>SEO</a:t>
              </a:r>
              <a:r>
                <a:rPr b="1" lang="ja-JP" sz="1400" spc="-1" strike="noStrike">
                  <a:solidFill>
                    <a:srgbClr val="404040"/>
                  </a:solidFill>
                  <a:latin typeface="Franklin Gothic Book"/>
                  <a:ea typeface="メイリオ"/>
                </a:rPr>
                <a:t>対策もバッチリです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正方形/長方形 180"/>
            <p:cNvSpPr/>
            <p:nvPr/>
          </p:nvSpPr>
          <p:spPr>
            <a:xfrm>
              <a:off x="11346120" y="8331120"/>
              <a:ext cx="30715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Franklin Gothic Book"/>
                  <a:ea typeface="メイリオ"/>
                </a:rPr>
                <a:t>POINT</a:t>
              </a:r>
              <a:r>
                <a:rPr b="1" lang="ja-JP" sz="2400" spc="-1" strike="noStrike">
                  <a:solidFill>
                    <a:srgbClr val="c00000"/>
                  </a:solidFill>
                  <a:latin typeface="Franklin Gothic Book"/>
                  <a:ea typeface="メイリオ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41360"/>
                  <a:tab algn="l" pos="2682720"/>
                  <a:tab algn="l" pos="4024440"/>
                  <a:tab algn="l" pos="5365800"/>
                  <a:tab algn="l" pos="6707160"/>
                  <a:tab algn="l" pos="8048520"/>
                  <a:tab algn="l" pos="9390240"/>
                  <a:tab algn="l" pos="10731600"/>
                </a:tabLst>
              </a:pPr>
              <a:r>
                <a:rPr b="1" lang="ja-JP" sz="1400" spc="-1" strike="noStrike">
                  <a:solidFill>
                    <a:srgbClr val="404040"/>
                  </a:solidFill>
                  <a:latin typeface="Franklin Gothic Book"/>
                  <a:ea typeface="メイリオ"/>
                </a:rPr>
                <a:t>インターネット最大のメリットは、費用がすべて成果報酬型。</a:t>
              </a:r>
              <a:br>
                <a:rPr sz="1400"/>
              </a:br>
              <a:r>
                <a:rPr b="1" lang="ja-JP" sz="1400" spc="-1" strike="noStrike">
                  <a:solidFill>
                    <a:srgbClr val="404040"/>
                  </a:solidFill>
                  <a:latin typeface="Franklin Gothic Book"/>
                  <a:ea typeface="メイリオ"/>
                </a:rPr>
                <a:t>また、成果報酬の限度額を決定できる安心のプランもご用意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グループ化 181"/>
            <p:cNvGrpSpPr/>
            <p:nvPr/>
          </p:nvGrpSpPr>
          <p:grpSpPr>
            <a:xfrm>
              <a:off x="3344040" y="8737560"/>
              <a:ext cx="492840" cy="648360"/>
              <a:chOff x="3344040" y="8737560"/>
              <a:chExt cx="492840" cy="648360"/>
            </a:xfrm>
          </p:grpSpPr>
          <p:sp>
            <p:nvSpPr>
              <p:cNvPr id="457" name="右矢印 14"/>
              <p:cNvSpPr/>
              <p:nvPr/>
            </p:nvSpPr>
            <p:spPr>
              <a:xfrm>
                <a:off x="3344040" y="8737560"/>
                <a:ext cx="492840" cy="648360"/>
              </a:xfrm>
              <a:prstGeom prst="rightArrow">
                <a:avLst>
                  <a:gd name="adj1" fmla="val 60000"/>
                  <a:gd name="adj2" fmla="val 50000"/>
                </a:avLst>
              </a:prstGeom>
              <a:gradFill rotWithShape="0">
                <a:gsLst>
                  <a:gs pos="0">
                    <a:srgbClr val="fff2cc"/>
                  </a:gs>
                  <a:gs pos="100000">
                    <a:srgbClr val="ffda47"/>
                  </a:gs>
                </a:gsLst>
                <a:lin ang="5400000"/>
              </a:gradFill>
              <a:ln w="10080">
                <a:solidFill>
                  <a:srgbClr val="c8af3c"/>
                </a:solidFill>
                <a:miter/>
              </a:ln>
              <a:effectLst>
                <a:outerShdw dist="50760" dir="5400000" blurRad="0" rotWithShape="0">
                  <a:srgbClr val="4e3b30">
                    <a:alpha val="6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右矢印 4"/>
              <p:cNvSpPr/>
              <p:nvPr/>
            </p:nvSpPr>
            <p:spPr>
              <a:xfrm>
                <a:off x="3344040" y="8867520"/>
                <a:ext cx="344880" cy="3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76"/>
                  </a:spcAft>
                  <a:tabLst>
                    <a:tab algn="l" pos="0"/>
                    <a:tab algn="l" pos="488880"/>
                    <a:tab algn="l" pos="977760"/>
                    <a:tab algn="l" pos="1467000"/>
                    <a:tab algn="l" pos="1955880"/>
                    <a:tab algn="l" pos="2444760"/>
                    <a:tab algn="l" pos="2933640"/>
                    <a:tab algn="l" pos="3422520"/>
                    <a:tab algn="l" pos="3911760"/>
                    <a:tab algn="l" pos="4400640"/>
                    <a:tab algn="l" pos="4889520"/>
                    <a:tab algn="l" pos="5378400"/>
                    <a:tab algn="l" pos="5867280"/>
                    <a:tab algn="l" pos="6356520"/>
                    <a:tab algn="l" pos="6845400"/>
                    <a:tab algn="l" pos="7334280"/>
                    <a:tab algn="l" pos="7823160"/>
                    <a:tab algn="l" pos="8312040"/>
                    <a:tab algn="l" pos="8801280"/>
                    <a:tab algn="l" pos="9290160"/>
                    <a:tab algn="l" pos="977904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グループ化 16"/>
            <p:cNvGrpSpPr/>
            <p:nvPr/>
          </p:nvGrpSpPr>
          <p:grpSpPr>
            <a:xfrm>
              <a:off x="7059240" y="8737560"/>
              <a:ext cx="492840" cy="648360"/>
              <a:chOff x="7059240" y="8737560"/>
              <a:chExt cx="492840" cy="648360"/>
            </a:xfrm>
          </p:grpSpPr>
          <p:sp>
            <p:nvSpPr>
              <p:cNvPr id="460" name="右矢印 186"/>
              <p:cNvSpPr/>
              <p:nvPr/>
            </p:nvSpPr>
            <p:spPr>
              <a:xfrm>
                <a:off x="7059240" y="8737560"/>
                <a:ext cx="492840" cy="648360"/>
              </a:xfrm>
              <a:prstGeom prst="rightArrow">
                <a:avLst>
                  <a:gd name="adj1" fmla="val 60000"/>
                  <a:gd name="adj2" fmla="val 50000"/>
                </a:avLst>
              </a:prstGeom>
              <a:gradFill rotWithShape="0">
                <a:gsLst>
                  <a:gs pos="0">
                    <a:srgbClr val="fff2cc"/>
                  </a:gs>
                  <a:gs pos="100000">
                    <a:srgbClr val="ffda47"/>
                  </a:gs>
                </a:gsLst>
                <a:lin ang="5400000"/>
              </a:gradFill>
              <a:ln w="10080">
                <a:solidFill>
                  <a:srgbClr val="c8af3c"/>
                </a:solidFill>
                <a:miter/>
              </a:ln>
              <a:effectLst>
                <a:outerShdw dist="50760" dir="5400000" blurRad="0" rotWithShape="0">
                  <a:srgbClr val="4e3b30">
                    <a:alpha val="6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右矢印 4"/>
              <p:cNvSpPr/>
              <p:nvPr/>
            </p:nvSpPr>
            <p:spPr>
              <a:xfrm>
                <a:off x="7059240" y="8867520"/>
                <a:ext cx="344880" cy="3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76"/>
                  </a:spcAft>
                  <a:tabLst>
                    <a:tab algn="l" pos="0"/>
                    <a:tab algn="l" pos="488880"/>
                    <a:tab algn="l" pos="977760"/>
                    <a:tab algn="l" pos="1467000"/>
                    <a:tab algn="l" pos="1955880"/>
                    <a:tab algn="l" pos="2444760"/>
                    <a:tab algn="l" pos="2933640"/>
                    <a:tab algn="l" pos="3422520"/>
                    <a:tab algn="l" pos="3911760"/>
                    <a:tab algn="l" pos="4400640"/>
                    <a:tab algn="l" pos="4889520"/>
                    <a:tab algn="l" pos="5378400"/>
                    <a:tab algn="l" pos="5867280"/>
                    <a:tab algn="l" pos="6356520"/>
                    <a:tab algn="l" pos="6845400"/>
                    <a:tab algn="l" pos="7334280"/>
                    <a:tab algn="l" pos="7823160"/>
                    <a:tab algn="l" pos="8312040"/>
                    <a:tab algn="l" pos="8801280"/>
                    <a:tab algn="l" pos="9290160"/>
                    <a:tab algn="l" pos="977904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グループ化 19"/>
            <p:cNvGrpSpPr/>
            <p:nvPr/>
          </p:nvGrpSpPr>
          <p:grpSpPr>
            <a:xfrm>
              <a:off x="10774080" y="8737560"/>
              <a:ext cx="492840" cy="648360"/>
              <a:chOff x="10774080" y="8737560"/>
              <a:chExt cx="492840" cy="648360"/>
            </a:xfrm>
          </p:grpSpPr>
          <p:sp>
            <p:nvSpPr>
              <p:cNvPr id="463" name="右矢印 184"/>
              <p:cNvSpPr/>
              <p:nvPr/>
            </p:nvSpPr>
            <p:spPr>
              <a:xfrm>
                <a:off x="10774080" y="8737560"/>
                <a:ext cx="492840" cy="648360"/>
              </a:xfrm>
              <a:prstGeom prst="rightArrow">
                <a:avLst>
                  <a:gd name="adj1" fmla="val 60000"/>
                  <a:gd name="adj2" fmla="val 50000"/>
                </a:avLst>
              </a:prstGeom>
              <a:gradFill rotWithShape="0">
                <a:gsLst>
                  <a:gs pos="0">
                    <a:srgbClr val="fff2cc"/>
                  </a:gs>
                  <a:gs pos="100000">
                    <a:srgbClr val="ffda47"/>
                  </a:gs>
                </a:gsLst>
                <a:lin ang="5400000"/>
              </a:gradFill>
              <a:ln w="10080">
                <a:solidFill>
                  <a:srgbClr val="c8af3c"/>
                </a:solidFill>
                <a:miter/>
              </a:ln>
              <a:effectLst>
                <a:outerShdw dist="50760" dir="5400000" blurRad="0" rotWithShape="0">
                  <a:srgbClr val="4e3b30">
                    <a:alpha val="6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右矢印 4"/>
              <p:cNvSpPr/>
              <p:nvPr/>
            </p:nvSpPr>
            <p:spPr>
              <a:xfrm>
                <a:off x="10774080" y="8867520"/>
                <a:ext cx="344880" cy="3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76"/>
                  </a:spcAft>
                  <a:tabLst>
                    <a:tab algn="l" pos="0"/>
                    <a:tab algn="l" pos="488880"/>
                    <a:tab algn="l" pos="977760"/>
                    <a:tab algn="l" pos="1467000"/>
                    <a:tab algn="l" pos="1955880"/>
                    <a:tab algn="l" pos="2444760"/>
                    <a:tab algn="l" pos="2933640"/>
                    <a:tab algn="l" pos="3422520"/>
                    <a:tab algn="l" pos="3911760"/>
                    <a:tab algn="l" pos="4400640"/>
                    <a:tab algn="l" pos="4889520"/>
                    <a:tab algn="l" pos="5378400"/>
                    <a:tab algn="l" pos="5867280"/>
                    <a:tab algn="l" pos="6356520"/>
                    <a:tab algn="l" pos="6845400"/>
                    <a:tab algn="l" pos="7334280"/>
                    <a:tab algn="l" pos="7823160"/>
                    <a:tab algn="l" pos="8312040"/>
                    <a:tab algn="l" pos="8801280"/>
                    <a:tab algn="l" pos="9290160"/>
                    <a:tab algn="l" pos="977904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4:26:26Z</dcterms:created>
  <dc:creator>yokota</dc:creator>
  <dc:description/>
  <dc:language>en-US</dc:language>
  <cp:lastModifiedBy>Kakine Shinobu</cp:lastModifiedBy>
  <dcterms:modified xsi:type="dcterms:W3CDTF">2011-02-10T07:34:35Z</dcterms:modified>
  <cp:revision>73</cp:revision>
  <dc:subject/>
  <dc:title>スライド 1</dc:title>
</cp:coreProperties>
</file>